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B99-AB12-41E5-81CE-327A3E5A02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3153-BB46-49F3-AF6B-79C63BFE04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112-6871-4723-8FBE-686C3376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A8-CCF6-417D-8DE9-7A01942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29C-28FA-4C93-AE8E-C2B9EAC7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B67-0F91-4443-B979-C9255C96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870-345E-4798-9790-A279DF0B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761-31B0-4531-86C9-84438DF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9C7-82A4-407F-87CB-CAE61782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00B-8A5A-42F8-A172-7114D39A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0D9-25B6-41AE-A7A4-9D5CFEA6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38F-38AD-459A-A931-21AB643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D03-9087-4F09-900F-E367702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39-9872-4DA3-B02F-DDDBAEC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0FB-E81C-45B4-B367-ECE3A2E51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асности железной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714240" y="0"/>
            <a:ext cx="75009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2419560" cy="2149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643120" y="0"/>
            <a:ext cx="6500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вы переходите железнодорожные пути и видите приближающийся поезд, вы не сможете точно определить, по какому пути он проследует. В надежде маневра можно оказаться прямо под колесами. Движущийся поезд остановить непросто. Его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тормозной пу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ь в зависимости от веса, профиля пути в среднем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составляет около тысячи метр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Кроме того, надо учитывать, что поезд, идущий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со скоростью 100-120 км/час, за одну секунду преодолевает 30 метров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А пешеходу, для того чтобы перейти через железнодорожный путь, требуется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не менее пяти-шести секун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28440"/>
            <a:ext cx="8715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ь на первый взгляд безопасны неподвижные вагоны. Подходить к ним ближе чем на пять метров, подлезать под вагоны нельзя: каждый вагон на станции находится в работе, поэтому он может начать движение в любую секунду. И если какой- нибудь выступ или рычаг вагона зацепится за одежду зазевавшегося человека, то несчастного обязательно затянет под ко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вестно, что опасно попасть между двумя движущимися составами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а воздушного потока, создаваемого двумя встречными составами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ляет 16 тонн, при такой нагрузке человека запросто может затянуть под поезд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нельзя пересекать железнодорожные пути там, где это удобно или в жела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кратить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nnovschool183.narod.ru/picture/1/zhd1.jpg"/>
          <p:cNvPicPr/>
          <p:nvPr/>
        </p:nvPicPr>
        <p:blipFill>
          <a:blip r:embed="rId1"/>
          <a:srcRect l="0" t="0" r="0" b="47434"/>
          <a:stretch/>
        </p:blipFill>
        <p:spPr>
          <a:xfrm>
            <a:off x="285840" y="214200"/>
            <a:ext cx="86072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nnovschool183.narod.ru/picture/1/zhd1.jpg"/>
          <p:cNvPicPr/>
          <p:nvPr/>
        </p:nvPicPr>
        <p:blipFill>
          <a:blip r:embed="rId1"/>
          <a:srcRect l="0" t="52571" r="0" b="3630"/>
          <a:stretch/>
        </p:blipFill>
        <p:spPr>
          <a:xfrm>
            <a:off x="0" y="28584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33480"/>
            <a:ext cx="85010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щие требования безопасности на объектах железнодорожного транспор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вижение по железнодорожным путям запрещено, даже при отсутствии на них подвижных состав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 движении вдоль железнодорожного пути не подходите ближе 5 метров к крайнему рель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поднимайтесь на опоры, специальные конструкции контактной сети, не прикасайтесь к проводам, лежащим на земле или идущих от опор или иных специальных конструкций сети, не влезайте на вагоны, цистерны и другие железнодорожные объекты в целях предотвращения контакта с проводами высокого напря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цепляйтесь за движущийся железнодорожный состав, маневренные тепловозы и другие подвижные сост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-1548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ебования безопасности при переходе железнодорожных пу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еходите железнодорожные пути только в установленных местах, пользуйтесь при этом пешеходными мостками, тоннелями, переходами, а там где их нет - по настилам 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тах, где установлены указатели «Переход через пут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ед переходом путей по пешеходному настилу необходимо убедиться в отсутствии движущегося подвижного состава. При приближении поезда, локомотива или вагонов остановитесь, пропустите их и, убедившись в отсутствии движущегося по соседним пу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ижного состава, продолжайте пере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 переходе через железнодорожные пути не подлезайте под вагоны и не перелезайте через автосцеп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дходя к железнодорожному переезду, внимательно следите за световой и звуковой сигнализацией, а также за положением шлагбау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500040" y="317520"/>
            <a:ext cx="7715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ебования безопасности при ожидании поезд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ожидании поезда не устраивайте на платформе подвижные игры; не прыгайте с пассажирской платформы на железнодорожные пути; не прислоняйтесь к стоящим вагонам; не бегите по платформе рядом с вагоном прибывающего (уходящего) поезда; не заходите за ограничительную линию у края пассажирской платформы; не стойте ближе 2-х метров от края платформы во время прохождения поезда без о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14200" y="245880"/>
            <a:ext cx="8643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ебования безопасности при посадке в вагон и выходе из нег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ходите к вагону, осуществляйте посадку и (или) высадку только при полной остановке поезда, не создавая помех другим гражданам и только со стороны пассажирской платформы или перрона; будьте внимательны - не оступитесь и не попадите в промежуток между посадочной площадкой вагона и платфо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ебования безопасности при движении поезда: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крывайте на ходу поезда наружные двери тамбуров; не стойте на подножках в переходных площадках вагонов; не высовывайтесь на ходу из окон вагонов; не выходите из вагона при остановке поезда на перег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428760" y="309600"/>
            <a:ext cx="8286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ебования безопасности при экстренной эвакуации из вагон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экстренной эвакуации из вагона старайтесь сохранять спокойствие; берите с собой только самое необходимое; окажите помощь при эвакуации пассажирам с детьми, престарелым и инвалидам; при выходе через боковые двери и аварийные выходы будьте внимательны, чтобы не попасть под встречный пое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571680" y="428760"/>
            <a:ext cx="82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Arial"/>
              </a:rPr>
              <a:t>Любое постороннее вмешательство в деятельность железнодорожного транспорта незаконно, оно преследуется по закону и влечет за собой уголовную и административную ответственность.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  <a:ea typeface="Arial"/>
              </a:rPr>
              <a:t>Наложение на рельсы посторонних предметов, закидывание поездов камнями и другие противоправные действия могут повлечь за собой гибель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14240" y="386640"/>
            <a:ext cx="7143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Железная дорог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удобный и востребованный вид транспорта, котор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льзуются миллионы людей каждый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скоростей на транспорте реш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ожество проблем, сократив время пребывания пассажиров в пути и доставки грузов, и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же время породило массу опасностей для челов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57120" y="315360"/>
            <a:ext cx="8786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атегорически запрещ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· повреждать объекты инфраструктуры железнодорожного транспор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· повреждать железнодорожный подвижной со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· класть на железнодорожные пути посторонние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· бросать предметы в движущийся подвижной со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· оставлять ложные сообщения о готовящихся террористических актах на объ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лезнодорожного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57120" y="2916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ьте внимательны и бдительны, помните, что желез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га - не место для игр. Не катайтесь по платформе на велосипеде, скейтборде 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ика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 ОПАСНО ДЛЯ ЖИЗН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ближаясь к железной дорог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ним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шни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них можно не услышать сигналов поезда! Никогда не перехо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лезнодорожные пути в местах стрелочных переводов. Поскользнувшись, 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рять в тисках стрелки, которая перемещается непосредственно перед идущ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ездом. Опасайтесь края платформы, не стойте на линии, обозначающей опасност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упившись, вы можете упасть на рельсы, под приближающийся поез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ерегите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29040" y="42876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а поведения подростков на железной дороге всегда заслуживает пристального внимания, поскольку процент смертности  детей на таких объектах продолжает оставаться высок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3267360" cy="2865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357120" y="4071960"/>
            <a:ext cx="335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Подростки не осознают всей опасности, которая предостерегает их на железной дор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950400"/>
            <a:ext cx="392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забираются на крыши вагонов, беспечно бродят по железнодорожным путям, катаются на подножках вагонов и просто ищут развлечения на железной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Уровень травматизма на Дальневосточной железной дороге снизился"/>
          <p:cNvPicPr/>
          <p:nvPr/>
        </p:nvPicPr>
        <p:blipFill>
          <a:blip r:embed="rId1"/>
          <a:stretch/>
        </p:blipFill>
        <p:spPr>
          <a:xfrm>
            <a:off x="3992400" y="928800"/>
            <a:ext cx="51516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Происшествия за 20.06.2013 год - Страница 1 - Лента новостей Одессы"/>
          <p:cNvPicPr/>
          <p:nvPr/>
        </p:nvPicPr>
        <p:blipFill>
          <a:blip r:embed="rId1"/>
          <a:stretch/>
        </p:blipFill>
        <p:spPr>
          <a:xfrm>
            <a:off x="63360" y="276120"/>
            <a:ext cx="5008680" cy="277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Телекомпания ТВ-21. Все новости Мурманска и Мурманской области :: Новости :: РЖД предлагает радикально усилить ответственность з"/>
          <p:cNvPicPr/>
          <p:nvPr/>
        </p:nvPicPr>
        <p:blipFill>
          <a:blip r:embed="rId2"/>
          <a:stretch/>
        </p:blipFill>
        <p:spPr>
          <a:xfrm>
            <a:off x="0" y="3619440"/>
            <a:ext cx="4457880" cy="323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Зацепы играют в &quot;дрезину&quot; на крыше поезда - ЯПлакалъ"/>
          <p:cNvPicPr/>
          <p:nvPr/>
        </p:nvPicPr>
        <p:blipFill>
          <a:blip r:embed="rId3"/>
          <a:stretch/>
        </p:blipFill>
        <p:spPr>
          <a:xfrm>
            <a:off x="3921120" y="714240"/>
            <a:ext cx="52228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00040" y="383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РОГИЕ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лезная дорога является зоной повышенной опасности. Находясь на территории железнодорожного транспорта, необходимо знать и точно соблюдать правила безопас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жегодно  на  железных  дорогах  нашей  страны  от  воздействия электрического тока гибнут и получают ожоги различной степени тяжести, как дети, так и взрослые граждане. Электрический ток невозможно увидеть визуально, у него нет ни цвета, ни запаха. Невооруженным глазом обычный человек не сможет отличить воздушную линию 220 В от линии в 10000 В. А на железной дороге большую часть составляют электроустановки и воздушные линии именно такого напряжения, т.е. более 1000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nnovschool183.narod.ru/files90/pamjatka_po_ehlektrobezopasnost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8215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Основными причинами травмирования граждан железнодорожным подвижным составом и поражения током контактной сети я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знание и нарушение правил безопасности при нахождении в зоне железнодорожных пу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оправданная спешка и беспеч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желание пользоваться переходными мостами, тоннелями и настил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зорство, хулиганство и игры, как на железнодорожных путях, так и на прилегающей к ним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357120"/>
            <a:ext cx="821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Основной причиной попадания детей под поезд, как показывает практика, является прослушивание музыки в наушниках при перемещении через железнодорожное полотно. Пострадавшие подростки не слышали ни приближения поезда, ни предупреждающего сигнала машин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Молодой человек в Караганде попал под поезд из-за наушников / Казахстанский агрегатор новостей"/>
          <p:cNvPicPr/>
          <p:nvPr/>
        </p:nvPicPr>
        <p:blipFill>
          <a:blip r:embed="rId1"/>
          <a:srcRect l="13751" t="0" r="0" b="0"/>
          <a:stretch/>
        </p:blipFill>
        <p:spPr>
          <a:xfrm>
            <a:off x="0" y="2357280"/>
            <a:ext cx="33415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38:45Z</dcterms:created>
  <dc:creator>Лада</dc:creator>
  <dc:description/>
  <dc:language>en-US</dc:language>
  <cp:lastModifiedBy>ЛЕНОК</cp:lastModifiedBy>
  <dcterms:modified xsi:type="dcterms:W3CDTF">2015-03-11T08:27:43Z</dcterms:modified>
  <cp:revision>9</cp:revision>
  <dc:subject/>
  <dc:title>Слайд 1</dc:title>
</cp:coreProperties>
</file>